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380E-D0DB-4828-B25C-C48CBF47BD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536C-7338-4DED-8B5C-76F24706D2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CCC-5402-4BA6-B70F-C68CDAE7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176-C987-4BBE-9320-91102E3F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41F-6FEA-4CD0-B2F5-78F93296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FB3-A7FE-4E9E-A745-4EB9D2FA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D3B-C165-4011-A0FF-F2D47E60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F7E-4AC3-49DA-A1F0-20E095B9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68C-EDBA-4DCD-861E-3FD7A6AE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E3B-6605-41B2-B001-BDCA86BE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93D-2A8B-4F37-B2FD-804804BC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CE9-B084-479C-9DCD-90EC004F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B1F-E710-40D2-B496-671C8C9D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AF9-ACE2-4DB7-BBD9-39EE1018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DD43-3DD7-49D3-AEDD-230E126BF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ec.comps.canstockphoto.com/can-stock-photo_csp8994860.jpg&amp;imgrefurl=http://www.canstockphoto.fr/heureux-facile-argent-dessin-anim%25C3%25A9-8994860.html&amp;usg=__FeMDxQphjT8t8OvcTVeIdGgJT3Q=&amp;h=400&amp;w=352&amp;sz=35&amp;hl=fr&amp;start=6&amp;zoom=1&amp;tbnid=66QPcogPS70mZM:&amp;tbnh=124&amp;tbnw=109&amp;ei=EpgHUYCQF6S50QXy_4DADg&amp;prev=/search%3Fq%3Dargent%2Bdessin%26hl%3Dfr%26sa%3DN%26gbv%3D2%26tbm%3Disch&amp;itbs=1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-181080" y="196920"/>
          <a:ext cx="9325080" cy="66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96920"/>
                    <a:ext cx="9325080" cy="66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3"/>
          <p:cNvSpPr/>
          <p:nvPr/>
        </p:nvSpPr>
        <p:spPr>
          <a:xfrm>
            <a:off x="0" y="692280"/>
            <a:ext cx="313200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04000" y="604800"/>
            <a:ext cx="1944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308720" y="61498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7956720" y="571824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4371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539640" y="2189160"/>
            <a:ext cx="601920" cy="934920"/>
            <a:chOff x="539640" y="2189160"/>
            <a:chExt cx="601920" cy="934920"/>
          </a:xfrm>
        </p:grpSpPr>
        <p:pic>
          <p:nvPicPr>
            <p:cNvPr id="56" name="Picture 9" descr="ANd9GcTuyYR48dc91Qqf-0nGkdw1CvbOVFwv8AmtfRwtY_PyIrd3VoeT5SYVI4I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9640" y="218916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0" descr="ANd9GcTuyYR48dc91Qqf-0nGkdw1CvbOVFwv8AmtfRwtY_PyIrd3VoeT5SYVI4I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11280" y="233208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" descr="ANd9GcTuyYR48dc91Qqf-0nGkdw1CvbOVFwv8AmtfRwtY_PyIrd3VoeT5SYVI4I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84360" y="2476440"/>
              <a:ext cx="45720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1270" t="11611" r="9391" b="5710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0" y="260280"/>
            <a:ext cx="34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384120"/>
          <a:ext cx="9144000" cy="64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4120"/>
                    <a:ext cx="9144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0" y="549360"/>
            <a:ext cx="385128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659640" y="1268280"/>
            <a:ext cx="2232000" cy="554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otal Ville 2.620 €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volution 2011 – 2012 : +0,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7308720" y="61912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ANd9GcQWcycFn2-5U4MClJfJMMNZFsH33Wa0796w3HFpoNIt139UXId1FELfqb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3238560"/>
            <a:ext cx="56988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9GcRZA2aJ81N8ko-yHW_tITy36fUMtD2E0dZb_C68d_caVwdB5NpSM9U5aeo"/>
          <p:cNvPicPr/>
          <p:nvPr/>
        </p:nvPicPr>
        <p:blipFill>
          <a:blip r:embed="rId6"/>
          <a:stretch/>
        </p:blipFill>
        <p:spPr>
          <a:xfrm>
            <a:off x="7308720" y="549360"/>
            <a:ext cx="7923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404640"/>
            <a:ext cx="392436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e ventes Appartements / Villas 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"/>
          <p:cNvSpPr/>
          <p:nvPr/>
        </p:nvSpPr>
        <p:spPr>
          <a:xfrm>
            <a:off x="611280" y="515772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611280" y="5589720"/>
            <a:ext cx="36036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45080" y="515772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044360" y="5589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7236000" y="6191280"/>
            <a:ext cx="161892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1403280" y="476280"/>
          <a:ext cx="7093080" cy="618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76280"/>
                    <a:ext cx="70930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-252360" y="189000"/>
          <a:ext cx="9144000" cy="598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189000"/>
                    <a:ext cx="91440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Object 6"/>
          <p:cNvGraphicFramePr/>
          <p:nvPr/>
        </p:nvGraphicFramePr>
        <p:xfrm>
          <a:off x="-541440" y="333360"/>
          <a:ext cx="9144000" cy="62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333360"/>
                    <a:ext cx="9144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260280"/>
            <a:ext cx="34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/ Villas 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11280" y="573408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"/>
          <p:cNvSpPr/>
          <p:nvPr/>
        </p:nvSpPr>
        <p:spPr>
          <a:xfrm>
            <a:off x="611280" y="6165720"/>
            <a:ext cx="36036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52920" y="575784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73080" y="6165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0"/>
          <p:cNvGraphicFramePr/>
          <p:nvPr/>
        </p:nvGraphicFramePr>
        <p:xfrm>
          <a:off x="971640" y="23760"/>
          <a:ext cx="7812000" cy="683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3760"/>
                    <a:ext cx="7812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5"/>
          <p:cNvGraphicFramePr/>
          <p:nvPr/>
        </p:nvGraphicFramePr>
        <p:xfrm>
          <a:off x="250920" y="404640"/>
          <a:ext cx="889308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8930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6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250920" y="333360"/>
          <a:ext cx="864216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86421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07600" cy="6713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04:48Z</dcterms:created>
  <dc:creator>bruguiere</dc:creator>
  <dc:description/>
  <dc:language>en-US</dc:language>
  <cp:lastModifiedBy>john smith</cp:lastModifiedBy>
  <dcterms:modified xsi:type="dcterms:W3CDTF">2014-01-07T13:12:23Z</dcterms:modified>
  <cp:revision>16</cp:revision>
  <dc:subject/>
  <dc:title>Diapositive 1</dc:title>
</cp:coreProperties>
</file>