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1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wmf" ContentType="image/x-wmf"/>
  <Override PartName="/ppt/media/image4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204B9-F8B8-476F-91E2-41F808FA6ED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A37CE-E570-4F9D-B37C-A840EBBB0C9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FC45-37F0-453B-84EC-3AD9BD4F1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B1AC-B879-4ADD-9964-6C8F5DE48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CA11-9EEE-472C-8BD7-8B7BE112A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C375-1EF2-4EA2-85FA-B7AC0B4CE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4F53-C350-432C-B034-A934D5656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4340-13FE-4FD6-BFED-74ADC0944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9C48-5F95-44BF-A556-D98085BA0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37E1-5CCF-46F2-A48F-544D63CEB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B205-2337-4F03-B2A0-26DC66BFA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7573-8B34-4D3B-B2CF-76E6E58D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A87A-77C0-4315-810F-77A33AC7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F7C2-7D73-4E9D-ABCB-663E494A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4F96C-38E2-4DA5-8B77-8923D3B4CD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hyperlink" Target="http://www.google.fr/imgres?imgurl=http://photos.century21.fr/imagesBien/202/2823/image_texte/image_texte_agence_cerfa-dpu.jpg&amp;imgrefurl=http://www.century21-adl-ornex.com/actualite-immobiliere-2012-06-18-1&amp;usg=__Rc6zKcnb3eEI2Tra2Q1jv50RVaw=&amp;h=435&amp;w=306&amp;sz=31&amp;hl=fr&amp;start=7&amp;zoom=1&amp;tbnid=fargqw0toGAxTM:&amp;tbnh=126&amp;tbnw=89&amp;ei=46EHUfD3CIeR0AWrjIGAAQ&amp;prev=/search%3Fq%3Dformulaire%2Bde%2Bdia%26hl%3Dfr%26gbv%3D2%26tbm%3Disch&amp;itbs=1" TargetMode="External"/><Relationship Id="rId5" Type="http://schemas.openxmlformats.org/officeDocument/2006/relationships/image" Target="../media/image3.jpeg"/><Relationship Id="rId6" Type="http://schemas.openxmlformats.org/officeDocument/2006/relationships/hyperlink" Target="http://www.google.fr/imgres?imgurl=http://photos.century21.fr/imagesBien/202/2823/image_texte/image_texte_agence_cerfa-dpu.jpg&amp;imgrefurl=http://www.century21-adl-ornex.com/actualite-immobiliere-2012-06-18-1&amp;usg=__Rc6zKcnb3eEI2Tra2Q1jv50RVaw=&amp;h=435&amp;w=306&amp;sz=31&amp;hl=fr&amp;start=7&amp;zoom=1&amp;tbnid=fargqw0toGAxTM:&amp;tbnh=126&amp;tbnw=89&amp;ei=46EHUfD3CIeR0AWrjIGAAQ&amp;prev=/search%3Fq%3Dformulaire%2Bde%2Bdia%26hl%3Dfr%26gbv%3D2%26tbm%3Disch&amp;itbs=1" TargetMode="External"/><Relationship Id="rId7" Type="http://schemas.openxmlformats.org/officeDocument/2006/relationships/image" Target="../media/image3.jpeg"/><Relationship Id="rId8" Type="http://schemas.openxmlformats.org/officeDocument/2006/relationships/hyperlink" Target="http://www.google.fr/imgres?imgurl=http://photos.century21.fr/imagesBien/202/2823/image_texte/image_texte_agence_cerfa-dpu.jpg&amp;imgrefurl=http://www.century21-adl-ornex.com/actualite-immobiliere-2012-06-18-1&amp;usg=__Rc6zKcnb3eEI2Tra2Q1jv50RVaw=&amp;h=435&amp;w=306&amp;sz=31&amp;hl=fr&amp;start=7&amp;zoom=1&amp;tbnid=fargqw0toGAxTM:&amp;tbnh=126&amp;tbnw=89&amp;ei=46EHUfD3CIeR0AWrjIGAAQ&amp;prev=/search%3Fq%3Dformulaire%2Bde%2Bdia%26hl%3Dfr%26gbv%3D2%26tbm%3Disch&amp;itbs=1" TargetMode="External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2.wmf"/><Relationship Id="rId4" Type="http://schemas.openxmlformats.org/officeDocument/2006/relationships/hyperlink" Target="http://www.google.fr/imgres?imgurl=http://ec.comps.canstockphoto.com/can-stock-photo_csp8994860.jpg&amp;imgrefurl=http://www.canstockphoto.fr/heureux-facile-argent-dessin-anim%25C3%25A9-8994860.html&amp;usg=__FeMDxQphjT8t8OvcTVeIdGgJT3Q=&amp;h=400&amp;w=352&amp;sz=35&amp;hl=fr&amp;start=6&amp;zoom=1&amp;tbnid=66QPcogPS70mZM:&amp;tbnh=124&amp;tbnw=109&amp;ei=EpgHUYCQF6S50QXy_4DADg&amp;prev=/search%3Fq%3Dargent%2Bdessin%26hl%3Dfr%26sa%3DN%26gbv%3D2%26tbm%3Disch&amp;itbs=1" TargetMode="External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-181080" y="196920"/>
          <a:ext cx="9325080" cy="666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1080" y="196920"/>
                    <a:ext cx="9325080" cy="66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Text Box 3"/>
          <p:cNvSpPr/>
          <p:nvPr/>
        </p:nvSpPr>
        <p:spPr>
          <a:xfrm>
            <a:off x="0" y="692280"/>
            <a:ext cx="3132000" cy="307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Nombre DIA par quartier -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6804000" y="604800"/>
            <a:ext cx="194472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3"/>
          <a:stretch/>
        </p:blipFill>
        <p:spPr>
          <a:xfrm>
            <a:off x="7308720" y="6149880"/>
            <a:ext cx="1619280" cy="6667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7956720" y="5718240"/>
            <a:ext cx="936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0" y="6437160"/>
            <a:ext cx="7236000" cy="3373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                    </a:t>
            </a: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Analyse des déclarations d’intention d’aliéner 20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8"/>
          <p:cNvGrpSpPr/>
          <p:nvPr/>
        </p:nvGrpSpPr>
        <p:grpSpPr>
          <a:xfrm>
            <a:off x="539640" y="2189160"/>
            <a:ext cx="601920" cy="934920"/>
            <a:chOff x="539640" y="2189160"/>
            <a:chExt cx="601920" cy="934920"/>
          </a:xfrm>
        </p:grpSpPr>
        <p:pic>
          <p:nvPicPr>
            <p:cNvPr id="56" name="Picture 9" descr="ANd9GcTuyYR48dc91Qqf-0nGkdw1CvbOVFwv8AmtfRwtY_PyIrd3VoeT5SYVI4I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539640" y="2189160"/>
              <a:ext cx="45720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10" descr="ANd9GcTuyYR48dc91Qqf-0nGkdw1CvbOVFwv8AmtfRwtY_PyIrd3VoeT5SYVI4I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611280" y="2332080"/>
              <a:ext cx="45720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11" descr="ANd9GcTuyYR48dc91Qqf-0nGkdw1CvbOVFwv8AmtfRwtY_PyIrd3VoeT5SYVI4I">
              <a:hlinkClick r:id="rId8"/>
            </p:cNvPr>
            <p:cNvPicPr/>
            <p:nvPr/>
          </p:nvPicPr>
          <p:blipFill>
            <a:blip r:embed="rId9"/>
            <a:stretch/>
          </p:blipFill>
          <p:spPr>
            <a:xfrm>
              <a:off x="684360" y="2476440"/>
              <a:ext cx="457200" cy="647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6" descr=""/>
          <p:cNvPicPr/>
          <p:nvPr/>
        </p:nvPicPr>
        <p:blipFill>
          <a:blip r:embed="rId1"/>
          <a:srcRect l="1270" t="11611" r="9391" b="5710"/>
          <a:stretch/>
        </p:blipFill>
        <p:spPr>
          <a:xfrm>
            <a:off x="0" y="0"/>
            <a:ext cx="9144000" cy="634824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7"/>
          <p:cNvSpPr/>
          <p:nvPr/>
        </p:nvSpPr>
        <p:spPr>
          <a:xfrm>
            <a:off x="0" y="260280"/>
            <a:ext cx="341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Appartements prix moyens par quartier -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8" descr="logo"/>
          <p:cNvPicPr/>
          <p:nvPr/>
        </p:nvPicPr>
        <p:blipFill>
          <a:blip r:embed="rId2"/>
          <a:stretch/>
        </p:blipFill>
        <p:spPr>
          <a:xfrm>
            <a:off x="7956720" y="0"/>
            <a:ext cx="10191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0" y="384120"/>
          <a:ext cx="9144000" cy="647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4120"/>
                    <a:ext cx="9144000" cy="647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Text Box 3"/>
          <p:cNvSpPr/>
          <p:nvPr/>
        </p:nvSpPr>
        <p:spPr>
          <a:xfrm>
            <a:off x="0" y="549360"/>
            <a:ext cx="3851280" cy="307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Appartements prix moyens par quartier -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6659640" y="1268280"/>
            <a:ext cx="2232000" cy="554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Total Ville 2.620 €/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Evolution 2011 – 2012 : +0,2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3"/>
          <a:stretch/>
        </p:blipFill>
        <p:spPr>
          <a:xfrm>
            <a:off x="7308720" y="6191280"/>
            <a:ext cx="1619280" cy="6667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0" y="6478560"/>
            <a:ext cx="7236000" cy="3373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                    </a:t>
            </a: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Analyse des déclarations d’intention d’aliéner 20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7" descr="ANd9GcQWcycFn2-5U4MClJfJMMNZFsH33Wa0796w3HFpoNIt139UXId1FELfqbA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476360" y="3238560"/>
            <a:ext cx="569880" cy="647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ANd9GcRZA2aJ81N8ko-yHW_tITy36fUMtD2E0dZb_C68d_caVwdB5NpSM9U5aeo"/>
          <p:cNvPicPr/>
          <p:nvPr/>
        </p:nvPicPr>
        <p:blipFill>
          <a:blip r:embed="rId6"/>
          <a:stretch/>
        </p:blipFill>
        <p:spPr>
          <a:xfrm>
            <a:off x="7308720" y="549360"/>
            <a:ext cx="79236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0" y="404640"/>
            <a:ext cx="3924360" cy="307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Nombre de ventes Appartements / Villas  -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"/>
          <p:cNvSpPr/>
          <p:nvPr/>
        </p:nvSpPr>
        <p:spPr>
          <a:xfrm>
            <a:off x="611280" y="5157720"/>
            <a:ext cx="36036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4"/>
          <p:cNvSpPr/>
          <p:nvPr/>
        </p:nvSpPr>
        <p:spPr>
          <a:xfrm>
            <a:off x="611280" y="5589720"/>
            <a:ext cx="36036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1045080" y="5157720"/>
            <a:ext cx="107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appart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1044360" y="5589720"/>
            <a:ext cx="5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vil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1"/>
          <a:stretch/>
        </p:blipFill>
        <p:spPr>
          <a:xfrm>
            <a:off x="7236000" y="6191280"/>
            <a:ext cx="1618920" cy="6667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8"/>
          <p:cNvSpPr/>
          <p:nvPr/>
        </p:nvSpPr>
        <p:spPr>
          <a:xfrm>
            <a:off x="0" y="6478560"/>
            <a:ext cx="7236000" cy="3373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                    </a:t>
            </a: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Analyse des déclarations d’intention d’aliéner 20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Object 2"/>
          <p:cNvGraphicFramePr/>
          <p:nvPr/>
        </p:nvGraphicFramePr>
        <p:xfrm>
          <a:off x="1403280" y="476280"/>
          <a:ext cx="7093080" cy="618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03280" y="476280"/>
                    <a:ext cx="7093080" cy="61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0" y="260280"/>
            <a:ext cx="31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Nombre DIA par quartier -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6804000" y="476280"/>
            <a:ext cx="194472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7164360" y="5516640"/>
            <a:ext cx="1619280" cy="6667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6"/>
          <p:cNvSpPr/>
          <p:nvPr/>
        </p:nvSpPr>
        <p:spPr>
          <a:xfrm>
            <a:off x="7956720" y="5589720"/>
            <a:ext cx="936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Object 7"/>
          <p:cNvGraphicFramePr/>
          <p:nvPr/>
        </p:nvGraphicFramePr>
        <p:xfrm>
          <a:off x="-252360" y="189000"/>
          <a:ext cx="9144000" cy="598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252360" y="189000"/>
                    <a:ext cx="9144000" cy="59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0" y="260280"/>
            <a:ext cx="38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Appartements prix moyens par quartier -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7164360" y="5516640"/>
            <a:ext cx="1619280" cy="666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4" name="Object 6"/>
          <p:cNvGraphicFramePr/>
          <p:nvPr/>
        </p:nvGraphicFramePr>
        <p:xfrm>
          <a:off x="-541440" y="333360"/>
          <a:ext cx="9144000" cy="621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541440" y="333360"/>
                    <a:ext cx="9144000" cy="62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0" y="260280"/>
            <a:ext cx="341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Appartements / Villas  -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5"/>
          <p:cNvSpPr/>
          <p:nvPr/>
        </p:nvSpPr>
        <p:spPr>
          <a:xfrm>
            <a:off x="611280" y="5734080"/>
            <a:ext cx="36036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6"/>
          <p:cNvSpPr/>
          <p:nvPr/>
        </p:nvSpPr>
        <p:spPr>
          <a:xfrm>
            <a:off x="611280" y="6165720"/>
            <a:ext cx="360360" cy="287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952920" y="5757840"/>
            <a:ext cx="107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appart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973080" y="6165720"/>
            <a:ext cx="5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vil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9" descr=""/>
          <p:cNvPicPr/>
          <p:nvPr/>
        </p:nvPicPr>
        <p:blipFill>
          <a:blip r:embed="rId1"/>
          <a:stretch/>
        </p:blipFill>
        <p:spPr>
          <a:xfrm>
            <a:off x="7164360" y="5516640"/>
            <a:ext cx="1619280" cy="666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Object 10"/>
          <p:cNvGraphicFramePr/>
          <p:nvPr/>
        </p:nvGraphicFramePr>
        <p:xfrm>
          <a:off x="971640" y="23760"/>
          <a:ext cx="7812000" cy="6834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23760"/>
                    <a:ext cx="7812000" cy="683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Object 5"/>
          <p:cNvGraphicFramePr/>
          <p:nvPr/>
        </p:nvGraphicFramePr>
        <p:xfrm>
          <a:off x="250920" y="404640"/>
          <a:ext cx="8893080" cy="604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04640"/>
                    <a:ext cx="8893080" cy="604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Text Box 6"/>
          <p:cNvSpPr/>
          <p:nvPr/>
        </p:nvSpPr>
        <p:spPr>
          <a:xfrm>
            <a:off x="0" y="260280"/>
            <a:ext cx="31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Nombre DIA par quartier -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6804000" y="476280"/>
            <a:ext cx="194472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8" descr=""/>
          <p:cNvPicPr/>
          <p:nvPr/>
        </p:nvPicPr>
        <p:blipFill>
          <a:blip r:embed="rId3"/>
          <a:stretch/>
        </p:blipFill>
        <p:spPr>
          <a:xfrm>
            <a:off x="7164360" y="5516640"/>
            <a:ext cx="1619280" cy="6667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9"/>
          <p:cNvSpPr/>
          <p:nvPr/>
        </p:nvSpPr>
        <p:spPr>
          <a:xfrm>
            <a:off x="7956720" y="5589720"/>
            <a:ext cx="936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Object 4"/>
          <p:cNvGraphicFramePr/>
          <p:nvPr/>
        </p:nvGraphicFramePr>
        <p:xfrm>
          <a:off x="250920" y="333360"/>
          <a:ext cx="8642160" cy="612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333360"/>
                    <a:ext cx="8642160" cy="612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Text Box 5"/>
          <p:cNvSpPr/>
          <p:nvPr/>
        </p:nvSpPr>
        <p:spPr>
          <a:xfrm>
            <a:off x="0" y="260280"/>
            <a:ext cx="38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Appartements prix moyens par quartier -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7164360" y="5516640"/>
            <a:ext cx="161928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507600" cy="67136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0" y="260280"/>
            <a:ext cx="31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Nombre DIA par quartier -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6" descr="logo"/>
          <p:cNvPicPr/>
          <p:nvPr/>
        </p:nvPicPr>
        <p:blipFill>
          <a:blip r:embed="rId2"/>
          <a:stretch/>
        </p:blipFill>
        <p:spPr>
          <a:xfrm>
            <a:off x="7956720" y="0"/>
            <a:ext cx="10191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14:04:48Z</dcterms:created>
  <dc:creator>bruguiere</dc:creator>
  <dc:description/>
  <dc:language>en-US</dc:language>
  <cp:lastModifiedBy>john smith</cp:lastModifiedBy>
  <dcterms:modified xsi:type="dcterms:W3CDTF">2014-01-07T13:12:23Z</dcterms:modified>
  <cp:revision>16</cp:revision>
  <dc:subject/>
  <dc:title>Diapositive 1</dc:title>
</cp:coreProperties>
</file>